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19501"/>
        <c:axId val="54956482"/>
      </c:barChart>
      <c:catAx>
        <c:axId val="10419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56482"/>
        <c:crosses val="autoZero"/>
        <c:auto val="1"/>
        <c:lblAlgn val="ctr"/>
        <c:lblOffset val="100"/>
        <c:noMultiLvlLbl val="0"/>
      </c:catAx>
      <c:valAx>
        <c:axId val="54956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19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551-4300-4B85-8A20-B3869D65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28B-0786-4A9D-A077-74598D1A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A7E-FF7E-4099-9732-A16C0956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83F-7046-4ED6-8AB3-E98F5BF3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522-07B3-43CD-8FC8-E12BDE5F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827-D878-4981-8E25-06691DE7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862-31BE-46C6-BA35-75D4FB29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386-D8B9-477F-9F5B-9E95CE7E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358-44DC-4D56-9867-9D79F694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796-D7E9-47E4-A9CB-42DB121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F98-EC47-4E49-BE9D-AB5FBE0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311-933A-4ED7-AA8D-3F53DF5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87147-2B9E-4B47-85A9-55347E80A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