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126011"/>
        <c:axId val="93547057"/>
      </c:barChart>
      <c:catAx>
        <c:axId val="261260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47057"/>
        <c:crosses val="autoZero"/>
        <c:auto val="1"/>
        <c:lblAlgn val="ctr"/>
        <c:lblOffset val="100"/>
        <c:noMultiLvlLbl val="0"/>
      </c:catAx>
      <c:valAx>
        <c:axId val="935470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260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74CE-CAFB-4FF1-8420-3F8FA1C1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87B1-6EA5-4632-9393-33563DBE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CCF-E745-4536-AF9D-8FC2F3FE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98DB-6A1E-49D6-A88A-27A79276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2799-3C6E-4DFF-862B-CCDB982F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E5B-FF3D-41B3-8BEB-820DE1E3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A6EF-E3C6-446F-AD4C-F3168C8E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449-0ADB-4DC7-9CF1-82DA17E1A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17F-FB3C-4FC2-92B0-73F92B7A8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A85-75E7-4E15-B7D5-3F69E36F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F00-B60F-48D1-ADA7-C1134C3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49D4-842D-457D-84AB-E22F38B1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4D84D1-F0DD-4256-AFE1-E9A4FD92F5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