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01896"/>
        <c:axId val="7465466"/>
      </c:barChart>
      <c:catAx>
        <c:axId val="553018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5466"/>
        <c:crosses val="autoZero"/>
        <c:auto val="1"/>
        <c:lblAlgn val="ctr"/>
        <c:lblOffset val="100"/>
        <c:noMultiLvlLbl val="0"/>
      </c:catAx>
      <c:valAx>
        <c:axId val="7465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018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6C69-EB17-4BE6-A98F-459AEE2F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EBE-BCB4-485C-9923-C2452586F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F66-78E8-4BF5-BD02-2CD01A5B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278-1ADC-4021-88B5-B1057DB45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2753-4439-4591-967B-6911471D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6D17-7156-4F43-BDEC-4BA40261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8DB-3541-4BF6-A4A8-300F7E97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9AD-D470-4FB6-97C5-12FAAFB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C11-E927-4D31-B743-4B0B0909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016-A002-4378-BE90-FCDFA4F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1601-2687-4D04-A211-502EC3B3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689-D69D-4344-92A8-C78DB62B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9315D-D2B5-4657-9D3F-BB22A62B40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