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987046"/>
        <c:axId val="98897537"/>
      </c:barChart>
      <c:catAx>
        <c:axId val="65987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97537"/>
        <c:crosses val="autoZero"/>
        <c:auto val="1"/>
        <c:lblAlgn val="ctr"/>
        <c:lblOffset val="100"/>
        <c:noMultiLvlLbl val="0"/>
      </c:catAx>
      <c:valAx>
        <c:axId val="98897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87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12BD-AD65-44AD-A877-6A2DB96C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9880-99D6-4F69-996B-9335BF90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B012-3F7A-4C2C-B094-985B25FA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23B-9EEF-40E8-BA97-0E470BCE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C1F-9F22-404C-B3F6-851541D6F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B65-E417-4237-A5EA-74A00570F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D5C-AA5E-466A-A311-3497EA3C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F68-653D-4E99-BBEB-3468BED0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1454-9748-47AD-9D4D-49BD29C0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CE6-2181-40A0-B75E-5F32D2FD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147-AFB9-4341-B8FF-E1FAAA7E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22B-A4EC-4CC0-9F91-D848FF8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EA107-2491-4231-A10F-AD6033300A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