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77341"/>
        <c:axId val="45249511"/>
      </c:barChart>
      <c:catAx>
        <c:axId val="21577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9511"/>
        <c:crosses val="autoZero"/>
        <c:auto val="1"/>
        <c:lblAlgn val="ctr"/>
        <c:lblOffset val="100"/>
        <c:noMultiLvlLbl val="0"/>
      </c:catAx>
      <c:valAx>
        <c:axId val="45249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77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342-65A8-48E5-B88C-EDD2AD97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1EB-B640-4BD6-A7CE-22F15E3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69C-0866-4066-ADBB-6166EE3E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CDC-D433-4A88-958B-C9228748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C71-08B3-4DC3-A2DA-16875BB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934-3517-40E2-B496-DF7774A7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30C-D086-430C-9023-43AB947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A1E-3CE8-4AE7-B621-E17CBB0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C5E-EDF4-4688-BF62-9FFC8E9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166-780F-46C2-9E7F-8829A65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C6A-A42D-46CE-922D-6A94BF4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164-B35C-4411-A97E-DD70606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2DBB7-C00F-4A74-8AF4-E1B037EA9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