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155005"/>
        <c:axId val="36174041"/>
      </c:barChart>
      <c:catAx>
        <c:axId val="681550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174041"/>
        <c:crosses val="autoZero"/>
        <c:auto val="1"/>
        <c:lblAlgn val="ctr"/>
        <c:lblOffset val="100"/>
        <c:noMultiLvlLbl val="0"/>
      </c:catAx>
      <c:valAx>
        <c:axId val="361740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1550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F11B-5593-4276-8EBB-A346E1975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C74F-6E64-4DD1-9454-72A9EFFC1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DE72-1484-4ADD-B296-3954CFA2F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FC8C-E57D-4903-9216-069A70030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44AB-0B6F-47B2-AD03-0095FCC8E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B737-B233-48E4-9F02-249CAEC2D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7505-350E-4609-9414-40122F055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3FFC-9E3E-4078-9F79-F2B5B7C71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48FF-83A2-4BF1-83B5-23C8BFF2D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6ECB-457F-492E-8158-43490D36C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65D8-8041-4CE4-B0B1-CAB06934D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777F-501D-4A0C-85D1-6AB4C773B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0C09F1-C4E0-4CCF-AAFF-7397DBB1580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