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79060"/>
        <c:axId val="57620560"/>
      </c:barChart>
      <c:catAx>
        <c:axId val="40579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20560"/>
        <c:crosses val="autoZero"/>
        <c:auto val="1"/>
        <c:lblAlgn val="ctr"/>
        <c:lblOffset val="100"/>
        <c:noMultiLvlLbl val="0"/>
      </c:catAx>
      <c:valAx>
        <c:axId val="57620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79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8EE-B175-4984-8146-A56C5160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2BD-08FE-420B-B7BA-B157020D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3C9-C328-47EC-B2BC-51C32E6F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E0F-BED8-4CBE-86C9-3CCB0AB0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91A-9BF9-47E9-899B-78419C29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B57-5401-4D21-BBC1-29885EE8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201-7EFB-458D-8446-89E1310E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F70-235A-40D8-8AA0-37032062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31C-F91D-4BE7-A8C3-0FA50EF4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2C9-6BC4-4672-BF3D-8A2726E4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FFB-469C-42C2-A19B-F8C97AA6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D6F-D0B2-41F5-BEFD-FF543B38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230EC-2678-4718-BA62-D2EA482DA6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