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9248"/>
        <c:axId val="84333365"/>
      </c:barChart>
      <c:catAx>
        <c:axId val="4949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33365"/>
        <c:crosses val="autoZero"/>
        <c:auto val="1"/>
        <c:lblAlgn val="ctr"/>
        <c:lblOffset val="100"/>
        <c:noMultiLvlLbl val="0"/>
      </c:catAx>
      <c:valAx>
        <c:axId val="84333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540-86C4-4479-941D-02A366CF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122-2269-4FF5-AED8-CF00182C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853-77F3-4A3B-996B-826A4809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E2B-D4A7-49A7-8F0C-4BF8341A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8EF-B436-49F3-B734-04EF5C46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241-08D4-4D87-86EC-51EECBD6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854-E805-430B-8279-779B95D7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9C9-E349-4DA6-BF37-66C5E43C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460-65C6-409A-A6BA-5E165EC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96B-21C3-4CCD-ABC0-6CDF9EC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E95-BAB0-43CF-9982-29BCD2F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047-1E0B-46DC-BA91-FD7BECB1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62BB-5F3E-4700-9821-823293703B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