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656210"/>
        <c:axId val="42459417"/>
      </c:barChart>
      <c:catAx>
        <c:axId val="14656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59417"/>
        <c:crosses val="autoZero"/>
        <c:auto val="1"/>
        <c:lblAlgn val="ctr"/>
        <c:lblOffset val="100"/>
        <c:noMultiLvlLbl val="0"/>
      </c:catAx>
      <c:valAx>
        <c:axId val="424594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56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F946-F93D-4272-931D-BAABBC29B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B6E-EE55-4512-B56E-1222D34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3383-2D98-4769-9334-2CC7D0B2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6F5-0DE0-483E-ACEC-FF2EFB242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BA4-3067-43BA-8CE2-461ACFCB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5CD-DEE1-4B06-B9AC-5A54E4DC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4E78-58D1-4908-B826-158CAB1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0CB1-4703-4E59-A11A-AA154BAF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476-604B-4910-A1AE-C050A069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A779-7C2F-4FED-B91A-A2DF9146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64B-186E-45E9-9ADB-05754ABA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F0F-A025-40AA-9DC2-B9C2BD0A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C167A-D056-44E1-90C8-7D78A88F29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