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92052"/>
        <c:axId val="55509177"/>
      </c:barChart>
      <c:catAx>
        <c:axId val="89392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9177"/>
        <c:crosses val="autoZero"/>
        <c:auto val="1"/>
        <c:lblAlgn val="ctr"/>
        <c:lblOffset val="100"/>
        <c:noMultiLvlLbl val="0"/>
      </c:catAx>
      <c:valAx>
        <c:axId val="55509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92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02E-5A0B-4F79-900E-2D0D92B9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A02-EBD1-4F0C-9476-DB00272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042-82A5-4411-98BB-0B29A2DB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7EE-7103-4ED0-8E1D-361E4EAC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897-5CB1-43DC-B42B-24AE0F3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C54-EE8E-41CF-A29C-65392D3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0E6-F555-45D7-8ED8-A4D4372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577-E6AA-472F-A15E-DE9448E3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37D-1B4B-4D73-8FBE-5B8612E0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6F2-04B0-4B99-B105-B54A359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6B8-8E5E-4C8A-8426-11E286F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04B-771C-4516-A915-87ABDDC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AD2B2-4C46-47CA-BE32-374430CF2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