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66391"/>
        <c:axId val="5640438"/>
      </c:barChart>
      <c:catAx>
        <c:axId val="97666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0438"/>
        <c:crosses val="autoZero"/>
        <c:auto val="1"/>
        <c:lblAlgn val="ctr"/>
        <c:lblOffset val="100"/>
        <c:noMultiLvlLbl val="0"/>
      </c:catAx>
      <c:valAx>
        <c:axId val="5640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66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F54-B786-4A05-805C-3583EA9E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428-2B81-41A3-9108-124F43FB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EFD-076B-4184-8203-A2821342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FE9-FC1D-4BA3-BCE2-E630E4DF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039-E218-41C1-8C3B-1E2D37F8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F63-CFEB-486E-9BFF-62793765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C768-C618-4AF7-96C0-F63A8C34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8C5C-668A-4F44-981B-53E3562D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B7A-2C3C-4AB1-9340-0932331F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3E3-DF82-4CD1-B8F4-30D266B1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52B2-F405-4600-84B5-DB96733A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55E2-3F7C-4DF3-83AD-3F95D363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D2924-DDF0-443C-B1FF-3092ABFA25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