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8094"/>
        <c:axId val="59677065"/>
      </c:barChart>
      <c:catAx>
        <c:axId val="5558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77065"/>
        <c:crosses val="autoZero"/>
        <c:auto val="1"/>
        <c:lblAlgn val="ctr"/>
        <c:lblOffset val="100"/>
        <c:noMultiLvlLbl val="0"/>
      </c:catAx>
      <c:valAx>
        <c:axId val="59677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8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106-3A48-40BB-B61A-276EB087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9C3-A867-4C51-AEE7-8FF610C9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0109-E3AB-491B-9262-B4A6EEC2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B6F-DDC9-402D-BB29-2E02061B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C27-3C91-4840-827B-8EC2B236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8B5-8F9D-4702-AB84-564E0792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3B6-CB90-41E7-93DE-1D050153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E67-25FF-423D-9C9C-8CC4FAF8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73C-871D-4C3C-B66D-A853D1E2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215C-F310-4096-892E-08BA1252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97A-14DD-4246-8485-C9576483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53B-E3C7-4F23-A3B3-CC9FA681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B79C4-018C-4571-8A5E-DB7E46B873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