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20558"/>
        <c:axId val="6803334"/>
      </c:barChart>
      <c:catAx>
        <c:axId val="6220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3334"/>
        <c:crosses val="autoZero"/>
        <c:auto val="1"/>
        <c:lblAlgn val="ctr"/>
        <c:lblOffset val="100"/>
        <c:noMultiLvlLbl val="0"/>
      </c:catAx>
      <c:valAx>
        <c:axId val="6803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0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0FF3-E7C5-437D-A1DC-E1925209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C62-CCAF-4ECD-B226-3378618B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1799-6D15-4827-9BA4-2E8FD3DE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9483-591E-4249-B176-A25AC2B2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E112-2F9E-4875-8159-D4E241DA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2E44-8D8D-4762-BDE1-CF8B573A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DF61-6080-41E0-AE79-60D6E48C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4777-FE69-4640-9BCB-AEE98E00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6F1-D5EF-4A5E-ADD1-6FBC0002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9A44-45C2-4D48-A4CB-9D300AC4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291F-37CD-485A-B8A1-E8B94D86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01A-A7BB-45B1-84FB-AB234052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26C3F-E993-4B40-9649-AAE2803475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