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15363"/>
        <c:axId val="50485361"/>
      </c:barChart>
      <c:catAx>
        <c:axId val="28215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85361"/>
        <c:crosses val="autoZero"/>
        <c:auto val="1"/>
        <c:lblAlgn val="ctr"/>
        <c:lblOffset val="100"/>
        <c:noMultiLvlLbl val="0"/>
      </c:catAx>
      <c:valAx>
        <c:axId val="50485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15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E0F-EE11-40C9-85A2-E13FDF57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666-7CD5-45E1-AF1E-909C54F5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C77-8FE7-4E4F-AD65-55589382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736-9BEA-4AB1-82A3-11C88CD2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B73-3C05-4CB5-85E3-BA2A61F5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26E-FD17-48DF-89CC-206BDA6B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3BA-888C-45C4-83FA-F403BB1F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6C9-77D2-425A-98FC-F779C9F2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7FA-2937-46F8-8250-F80C2B86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4B83-EDD9-428D-B505-2AC2409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9E9-58D4-471F-A52C-081A2651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BD2-9796-44C1-A2B2-06F6557E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28E63-1A92-47D6-86F5-AC037FC962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