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24261"/>
        <c:axId val="84476854"/>
      </c:barChart>
      <c:catAx>
        <c:axId val="79224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76854"/>
        <c:crosses val="autoZero"/>
        <c:auto val="1"/>
        <c:lblAlgn val="ctr"/>
        <c:lblOffset val="100"/>
        <c:noMultiLvlLbl val="0"/>
      </c:catAx>
      <c:valAx>
        <c:axId val="84476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24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2CE-D588-400D-9453-EDC304F9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593-90A5-45B5-8BD8-2F6EEB2A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165-9DCC-4D47-B1EC-BB4D1A0D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1B3-D91A-4D25-A65B-CB2CAA6A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7CB-E1E4-4A92-8845-A61C145D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E9B-2A84-4216-9FFD-D32E6499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A0F-E922-4768-8E9F-31172DC1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024-333D-4E25-9205-10504AE5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25F-FD79-4BBC-9ADE-FB33F3D2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571-B114-4B8C-AB47-8D98217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C7D-7D28-4663-87F6-F4B53C3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1F2-7236-4D74-8C5D-62579027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902A6-D56A-4500-B04D-035620927C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