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63369"/>
        <c:axId val="24501633"/>
      </c:barChart>
      <c:catAx>
        <c:axId val="68963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1633"/>
        <c:crosses val="autoZero"/>
        <c:auto val="1"/>
        <c:lblAlgn val="ctr"/>
        <c:lblOffset val="100"/>
        <c:noMultiLvlLbl val="0"/>
      </c:catAx>
      <c:valAx>
        <c:axId val="24501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63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921-5E51-4CD9-9C1F-1ADE6CFD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864-EB93-4A7C-9876-AEA9DF6B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F12-FF95-4FDD-ABC7-26726F57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3A4-71A3-4A46-B24B-AB065FB0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C40-2FAD-4468-B56E-BC15CFC5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457-9B5C-4F3C-8EDD-B5FFA08C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F02-3678-4EA4-801E-EFBD310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76E-FE58-4ED2-BCD7-2D4CC36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6D1-1554-435E-9B43-61027BE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34F-AD37-4CEB-8A8A-855C95D4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E9B-A1F6-4D4B-8D25-13296B6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C69-E551-4D19-B230-5B572AA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628B-91B5-4E84-9B0D-0718E7340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